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968E5-D225-45B6-8946-ED66554CC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0CE7-C4EC-4FFE-9F64-9844DCAF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DE7E5-1FF3-4FAB-8A3B-8A5036AE0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3E158-9323-459F-9687-849326653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606B6-A991-4EE0-8D55-CB7007015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12AF2-3B0F-4EA6-982F-41C75691E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3C271-AF64-4D20-B1F1-DC2585E14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6C1D2-3550-4D37-96C8-5CA3B504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5987-6048-45E8-A550-32173B49A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559FD-D17E-4114-8B7D-46DD863DF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D8032-C6B1-47EF-9A20-96BE1C5BE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5C6F-8DAF-4BB0-B7F2-B753CA092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F6542-0DD4-4386-B27D-017D09E9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1C63-4993-474C-AAE8-800F4A7E6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BFF8-0EB9-4D8F-B258-BAD38991F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340A4-ECBD-4BB6-95E9-B5352784B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170AA-8A20-4125-AEA4-00EC497BC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5494AB-B67E-4D22-9067-E82CDC775F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3C1C5E-C02A-496E-8202-45BCE138B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380F6A-9055-456F-A983-723C3138F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076EEF-0089-482B-9203-0BB7B2FB9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8AFF00-7CE6-454D-B02D-5B0278CE0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6615-C2CD-48F0-945E-DEF68937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666BC6-5414-484A-9ACF-6DC7F6B80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85222A-5801-4618-A207-2DA11991D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A0AE81-B5D8-4596-8516-DAEAD699E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D42F5C-781E-473D-A0EA-B7B5ABBA8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2D577C-D085-4470-B7D9-C21866ABF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BCDBDB-3E8C-42AC-9B00-B0272649A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7EB5070-A0B6-4E96-A6F7-C2D1071A3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B412B-ABAD-4647-8178-DB4FAE8DCA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1FAF6-69D6-4B4F-A68A-D7E9F1871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2BA91-4EE3-48B2-BACC-0F86933DE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0C9B0-7F4B-43BE-8CBD-5914865D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85F92-BD5F-41FE-AA81-45B798F4A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717F1-0195-42AF-963A-755721867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42599-3352-4002-A837-5B681B1CA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94703-E82F-4B15-92CD-01B994E67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9FBA2-8EDD-4557-99F3-7E3533A21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7E157-EC23-4863-A96F-5809D590B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2FC5A-778B-4321-B768-B95E999DD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4E2DC-8CDC-4543-A516-126328A958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67B50-49D1-4823-8308-04278AB23D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79E5CC-B99A-4E33-93E3-9282236AD5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ACBAA-FD8F-4AE2-897F-03452D42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F81458-60A4-4C8A-BA8F-E10D3433F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7BA50C-4B5B-4C36-89A6-0E927AE93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B7C97D-F919-4A97-BBC6-9BA51796E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A03D3E-C7ED-4AB8-92AE-DEE812287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6BE9BF-7108-4967-BB4D-CBCB5D67B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9106A1-0493-467E-9275-B86FF91CC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29E7F6-3A91-4297-97A9-8769FC535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231CAB-CAAE-4822-85DA-EC9A5F158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5007C9-F196-4FBF-B8C5-133553BD2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F147AE-00EA-45DB-A6CC-F266791D40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7DFE-18DF-4405-AC27-3BC8BA584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88A9FF-57EF-413A-8807-2994D2FA2A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994C723-5655-466F-A367-31B143A2F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430DA9-06A3-4A37-8BD4-7C277A58D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BA0E5B-BC3A-4B0F-A944-18D48E1D6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34EB22-00D7-4B3F-86DC-97773F45F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42CBD2-CDB2-4C15-BEDA-C85E11214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DF2FCE2-646B-473B-8F49-50F14EB82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CADE71-94AE-4B0D-9215-5940F8710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D64949-D041-47E3-BD9D-1865E21FD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B8B1F1-8B4A-461D-A3DA-5826C3DF9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081D-D5E6-4942-A7B7-C8D227F9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379924-0A6F-42DD-B393-082633EB1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8CEEF4D-92BB-41A3-B856-6C3B97294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9645C39-2311-4BB9-838C-ED9B2EBFF2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89C4AC-7C5E-4582-9065-C980341A5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62FE68-BFD7-4F80-828D-5B2D7A651C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B0C91B-16FA-44E0-A441-0AE1A712D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EF29A54-75AB-4A77-A375-E5291BE64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B01C2E-7C32-47EA-97FD-594113F26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FC6DDB-CE00-4CF6-94E9-EA7770E58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C62863-B40D-42E8-BD6A-925AEF7DB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FF8F-FDF9-4267-BB3A-E96621731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033B05-F5E2-4CEE-9BDA-87B46B834B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208DB5-582C-4F3D-BA63-F35EF3C53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BDF618-DEB3-4853-9961-6FF6751BE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D06CE80-C662-4E83-A8DB-3A0463E8F5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29C381A-1C6F-4A6C-B3F9-B1A9344329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8573-C9C1-4D43-84D1-C86C6EA3C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5F46-622C-4248-B3A5-50CD4AE640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2A31-EBC1-4A7E-8E29-CF356307AE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5BDB-B887-40B4-9CC1-CD3E0DA9EE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F7E4-36AA-49B4-A2A7-7FA289255D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E6DA-218D-4E95-BF50-9234660C30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1DCE-94EA-4309-9D95-512D33D010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DBD1-09C6-4A05-A55C-8FE9AF7D3D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windee morta</cp:lastModifiedBy>
  <dcterms:modified xsi:type="dcterms:W3CDTF">2012-07-19T10:32:33Z</dcterms:modified>
  <cp:revision>4</cp:revision>
  <dc:subject/>
  <dc:title>Slide 1</dc:title>
</cp:coreProperties>
</file>